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71D0-8998-4ADE-9044-E4BF4C164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4CE0-CF37-45BF-8B7E-80ADD2CEF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62CD-7651-4D6C-AAAA-6BAB69BC9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A65B-2700-4199-A18A-08823E28F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636BA-EFCE-4632-AF10-ED1451A3B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3D54-AD2B-48F3-A4A2-86078F545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4BC28-A2DA-47CF-A2EA-FC305B9B0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66C1-2AAD-448D-9D86-5D72E35B4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C006-5879-48EB-B992-3CD116BD9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A4FA-29A9-468D-85EB-18A26C998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36DF-FCE3-4A81-84E0-6F432982B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A8F0-7FE8-4162-B07D-B61E256AD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52C0-0F36-4161-BE98-5F554D997F93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538972556_L" descr="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8-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a Post-Closing Trial Balanc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LEDGER ACCOUNTS AFTER ADJUSTING AND CLOSING ENTRI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POS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4920" y="1600200"/>
            <a:ext cx="8534160" cy="4183200"/>
            <a:chOff x="304920" y="1600200"/>
            <a:chExt cx="8534160" cy="4183200"/>
          </a:xfrm>
        </p:grpSpPr>
        <p:pic>
          <p:nvPicPr>
            <p:cNvPr id="93" name="C21_blue_0815" descr=""/>
            <p:cNvPicPr/>
            <p:nvPr/>
          </p:nvPicPr>
          <p:blipFill>
            <a:blip r:embed="rId1"/>
            <a:srcRect l="0" t="0" r="1165" b="0"/>
            <a:stretch/>
          </p:blipFill>
          <p:spPr>
            <a:xfrm>
              <a:off x="304920" y="1600200"/>
              <a:ext cx="2651040" cy="29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C21_blue_0817" descr=""/>
            <p:cNvPicPr/>
            <p:nvPr/>
          </p:nvPicPr>
          <p:blipFill>
            <a:blip r:embed="rId2"/>
            <a:srcRect l="0" t="5419" r="3415" b="2381"/>
            <a:stretch/>
          </p:blipFill>
          <p:spPr>
            <a:xfrm>
              <a:off x="6087960" y="1600200"/>
              <a:ext cx="2751120" cy="37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C21_blue_0816" descr=""/>
            <p:cNvPicPr/>
            <p:nvPr/>
          </p:nvPicPr>
          <p:blipFill>
            <a:blip r:embed="rId3"/>
            <a:srcRect l="4859" t="0" r="4859" b="0"/>
            <a:stretch/>
          </p:blipFill>
          <p:spPr>
            <a:xfrm>
              <a:off x="3117960" y="1600200"/>
              <a:ext cx="2806560" cy="418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0479-D50B-4601-892A-AE189AF63C32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6560" y="4765680"/>
            <a:ext cx="20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6560" y="4400640"/>
            <a:ext cx="20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6560" y="4035600"/>
            <a:ext cx="20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6560" y="3365640"/>
            <a:ext cx="204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6560" y="3000240"/>
            <a:ext cx="20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6560" y="2330280"/>
            <a:ext cx="204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 bal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6560" y="1965240"/>
            <a:ext cx="20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 ti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6560" y="1600200"/>
            <a:ext cx="20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CLOSING TRIAL BA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C21_blue_0818" descr=""/>
          <p:cNvPicPr/>
          <p:nvPr/>
        </p:nvPicPr>
        <p:blipFill>
          <a:blip r:embed="rId1"/>
          <a:srcRect l="1246" t="0" r="1246" b="0"/>
          <a:stretch/>
        </p:blipFill>
        <p:spPr>
          <a:xfrm>
            <a:off x="685800" y="1600200"/>
            <a:ext cx="5562720" cy="3524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419720" y="19051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46483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51000" y="2763720"/>
            <a:ext cx="417240" cy="1828800"/>
            <a:chOff x="351000" y="2763720"/>
            <a:chExt cx="417240" cy="1828800"/>
          </a:xfrm>
        </p:grpSpPr>
        <p:sp>
          <p:nvSpPr>
            <p:cNvPr id="110" name=""/>
            <p:cNvSpPr/>
            <p:nvPr/>
          </p:nvSpPr>
          <p:spPr>
            <a:xfrm>
              <a:off x="539640" y="2763720"/>
              <a:ext cx="228600" cy="1828800"/>
            </a:xfrm>
            <a:custGeom>
              <a:avLst/>
              <a:gdLst/>
              <a:ahLst/>
              <a:rect l="l" t="t" r="r" b="b"/>
              <a:pathLst>
                <a:path w="192" h="1632">
                  <a:moveTo>
                    <a:pt x="192" y="1632"/>
                  </a:moveTo>
                  <a:lnTo>
                    <a:pt x="0" y="1632"/>
                  </a:ln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51000" y="35290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172200" y="2743200"/>
            <a:ext cx="457200" cy="1828800"/>
            <a:chOff x="6172200" y="2743200"/>
            <a:chExt cx="457200" cy="1828800"/>
          </a:xfrm>
        </p:grpSpPr>
        <p:sp>
          <p:nvSpPr>
            <p:cNvPr id="113" name=""/>
            <p:cNvSpPr/>
            <p:nvPr/>
          </p:nvSpPr>
          <p:spPr>
            <a:xfrm>
              <a:off x="6172200" y="2743200"/>
              <a:ext cx="228600" cy="1828800"/>
            </a:xfrm>
            <a:custGeom>
              <a:avLst/>
              <a:gdLst/>
              <a:ahLst/>
              <a:rect l="l" t="t" r="r" b="b"/>
              <a:pathLst>
                <a:path w="432" h="1152">
                  <a:moveTo>
                    <a:pt x="0" y="0"/>
                  </a:moveTo>
                  <a:lnTo>
                    <a:pt x="432" y="0"/>
                  </a:lnTo>
                  <a:lnTo>
                    <a:pt x="432" y="1152"/>
                  </a:lnTo>
                  <a:lnTo>
                    <a:pt x="0" y="1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18280" y="35053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276720" y="4703760"/>
            <a:ext cx="1143000" cy="1117440"/>
            <a:chOff x="3276720" y="4703760"/>
            <a:chExt cx="1143000" cy="1117440"/>
          </a:xfrm>
        </p:grpSpPr>
        <p:sp>
          <p:nvSpPr>
            <p:cNvPr id="116" name=""/>
            <p:cNvSpPr/>
            <p:nvPr/>
          </p:nvSpPr>
          <p:spPr>
            <a:xfrm>
              <a:off x="3505320" y="4703760"/>
              <a:ext cx="914400" cy="914400"/>
            </a:xfrm>
            <a:custGeom>
              <a:avLst/>
              <a:gdLst/>
              <a:ahLst/>
              <a:rect l="l" t="t" r="r" b="b"/>
              <a:pathLst>
                <a:path w="576" h="672">
                  <a:moveTo>
                    <a:pt x="576" y="0"/>
                  </a:moveTo>
                  <a:lnTo>
                    <a:pt x="0" y="0"/>
                  </a:lnTo>
                  <a:lnTo>
                    <a:pt x="0" y="6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4100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363920" y="4943520"/>
            <a:ext cx="1828800" cy="466560"/>
            <a:chOff x="4363920" y="4943520"/>
            <a:chExt cx="1828800" cy="466560"/>
          </a:xfrm>
        </p:grpSpPr>
        <p:sp>
          <p:nvSpPr>
            <p:cNvPr id="119" name=""/>
            <p:cNvSpPr/>
            <p:nvPr/>
          </p:nvSpPr>
          <p:spPr>
            <a:xfrm>
              <a:off x="4363920" y="4943520"/>
              <a:ext cx="1828800" cy="30492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lnTo>
                    <a:pt x="0" y="192"/>
                  </a:lnTo>
                  <a:lnTo>
                    <a:pt x="1152" y="192"/>
                  </a:lnTo>
                  <a:lnTo>
                    <a:pt x="115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73480" y="4998960"/>
              <a:ext cx="41148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141960" y="4821120"/>
            <a:ext cx="487080" cy="1249200"/>
            <a:chOff x="6141960" y="4821120"/>
            <a:chExt cx="487080" cy="1249200"/>
          </a:xfrm>
        </p:grpSpPr>
        <p:sp>
          <p:nvSpPr>
            <p:cNvPr id="122" name=""/>
            <p:cNvSpPr/>
            <p:nvPr/>
          </p:nvSpPr>
          <p:spPr>
            <a:xfrm>
              <a:off x="6141960" y="4821120"/>
              <a:ext cx="304560" cy="1143000"/>
            </a:xfrm>
            <a:custGeom>
              <a:avLst/>
              <a:gdLst/>
              <a:ahLst/>
              <a:rect l="l" t="t" r="r" b="b"/>
              <a:pathLst>
                <a:path w="192" h="720">
                  <a:moveTo>
                    <a:pt x="0" y="0"/>
                  </a:moveTo>
                  <a:lnTo>
                    <a:pt x="192" y="0"/>
                  </a:lnTo>
                  <a:lnTo>
                    <a:pt x="192" y="7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17920" y="56592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219320" y="1905120"/>
            <a:ext cx="3276360" cy="2666520"/>
            <a:chOff x="1219320" y="1905120"/>
            <a:chExt cx="3276360" cy="2666520"/>
          </a:xfrm>
        </p:grpSpPr>
        <p:sp>
          <p:nvSpPr>
            <p:cNvPr id="125" name=""/>
            <p:cNvSpPr/>
            <p:nvPr/>
          </p:nvSpPr>
          <p:spPr>
            <a:xfrm flipH="1" flipV="1">
              <a:off x="1447920" y="2133360"/>
              <a:ext cx="304776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19320" y="19051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4CB0-E791-4522-93DE-8D322FA4B1F0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21_grn_0819" descr=""/>
          <p:cNvPicPr/>
          <p:nvPr/>
        </p:nvPicPr>
        <p:blipFill>
          <a:blip r:embed="rId1"/>
          <a:stretch/>
        </p:blipFill>
        <p:spPr>
          <a:xfrm>
            <a:off x="301680" y="1425600"/>
            <a:ext cx="4825800" cy="4825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ING CYCLE FOR A SERVICE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20574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3352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41911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00560" y="525456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1814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18288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40384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2438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62720" y="50734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post-closing trial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2720" y="43974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adjusting and closing 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730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urnalize adjusting and closing 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30607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inancial stat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26989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work 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23274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196524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urnal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s transa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F09E-4CCD-4F11-A4D1-992D0F96EB19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closing trial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95995-D846-4F32-AAC2-1245154B28A9}" type="slidenum">
              <a:t>5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4:14Z</dcterms:created>
  <dc:creator>M. C. McLaughlin</dc:creator>
  <dc:description/>
  <dc:language>en-US</dc:language>
  <cp:lastModifiedBy>M. C. McLaughlin</cp:lastModifiedBy>
  <dcterms:modified xsi:type="dcterms:W3CDTF">2005-04-22T18:10:59Z</dcterms:modified>
  <cp:revision>25</cp:revision>
  <dc:subject/>
  <dc:title>Lesson 8-1</dc:title>
</cp:coreProperties>
</file>